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5BBC1-D68C-4824-B761-88B49A683A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0F213-7EB6-49B4-AB25-B47B79472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DB427-B49A-43E7-8437-F6329BD9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19471-06B7-4D21-8CAE-81A230E78F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DF0EE-21DB-4142-B7CE-0FCDDE4AF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41601-745D-4530-9D95-B03AF201A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E37B3-2702-4B53-AEC1-BA3D4BF7C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F0F8F-ECC4-4E05-89BD-1ED4FED12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92004-0FB4-4060-B401-CF60A762A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88B7A-47CF-4840-BC17-962C15DFB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414F8-96E6-423D-9665-60C2F6F7F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B2B44-87EF-443C-8544-18DC2FF38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771B7-1CBB-45BA-9166-59E54E0E2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0" y="0"/>
            <a:ext cx="2050920" cy="79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Liam Test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250920" y="1197000"/>
            <a:ext cx="161928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est 0(this test is a starter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34920" y="-30240"/>
            <a:ext cx="2050920" cy="79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Liam Test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-684360" y="6210360"/>
            <a:ext cx="1152216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5332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his test is Test 0 go to www.liamtestsccoolbookwins.webs.com/LiamTest and click on start test to find out what to do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Click here to begi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Question 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o format picture 1 to look like picture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332000" y="2637000"/>
            <a:ext cx="1654200" cy="2205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510160" y="2637000"/>
            <a:ext cx="1654200" cy="2205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03640" y="3716280"/>
            <a:ext cx="2016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619280" y="2924280"/>
            <a:ext cx="1330200" cy="177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5796000" y="2924280"/>
            <a:ext cx="1330200" cy="1773000"/>
          </a:xfrm>
          <a:prstGeom prst="rect">
            <a:avLst/>
          </a:prstGeom>
          <a:ln w="0">
            <a:noFill/>
          </a:ln>
        </p:spPr>
      </p:pic>
      <p:sp>
        <p:nvSpPr>
          <p:cNvPr id="52" name="">
            <a:hlinkClick r:id="" action="ppaction://hlinkshowjump?jump=endshow"/>
          </p:cNvPr>
          <p:cNvSpPr/>
          <p:nvPr/>
        </p:nvSpPr>
        <p:spPr>
          <a:xfrm>
            <a:off x="0" y="5445000"/>
            <a:ext cx="1042920" cy="141300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413000"/>
              <a:gd name="textAreaBottom" fmla="*/ 1345680 h 1413000"/>
            </a:gdLst>
            <a:ahLst/>
            <a:rect l="textAreaLeft" t="textAreaTop" r="textAreaRight" b="textAreaBottom"/>
            <a:pathLst>
              <a:path w="21600" h="29262">
                <a:moveTo>
                  <a:pt x="0" y="0"/>
                </a:moveTo>
                <a:lnTo>
                  <a:pt x="21600" y="0"/>
                </a:lnTo>
                <a:lnTo>
                  <a:pt x="21600" y="29262"/>
                </a:lnTo>
                <a:lnTo>
                  <a:pt x="0" y="29262"/>
                </a:lnTo>
                <a:close/>
              </a:path>
              <a:path fill="lightenLess" w="21600" h="292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262">
                <a:moveTo>
                  <a:pt x="21600" y="0"/>
                </a:moveTo>
                <a:lnTo>
                  <a:pt x="21600" y="29262"/>
                </a:lnTo>
                <a:lnTo>
                  <a:pt x="20200" y="27862"/>
                </a:lnTo>
                <a:lnTo>
                  <a:pt x="20200" y="1400"/>
                </a:lnTo>
                <a:close/>
              </a:path>
              <a:path fill="darkenLess" w="21600" h="29262">
                <a:moveTo>
                  <a:pt x="21600" y="29262"/>
                </a:moveTo>
                <a:lnTo>
                  <a:pt x="0" y="29262"/>
                </a:lnTo>
                <a:lnTo>
                  <a:pt x="1400" y="27862"/>
                </a:lnTo>
                <a:lnTo>
                  <a:pt x="20200" y="27862"/>
                </a:lnTo>
                <a:close/>
              </a:path>
              <a:path fill="lighten" w="21600" h="29262">
                <a:moveTo>
                  <a:pt x="0" y="292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862"/>
                </a:lnTo>
                <a:close/>
              </a:path>
              <a:path fill="darken" w="21600" h="29262">
                <a:moveTo>
                  <a:pt x="10800" y="7668"/>
                </a:moveTo>
                <a:lnTo>
                  <a:pt x="13376" y="10279"/>
                </a:lnTo>
                <a:lnTo>
                  <a:pt x="13376" y="8538"/>
                </a:lnTo>
                <a:lnTo>
                  <a:pt x="15152" y="8538"/>
                </a:lnTo>
                <a:lnTo>
                  <a:pt x="15152" y="12055"/>
                </a:lnTo>
                <a:lnTo>
                  <a:pt x="17763" y="14631"/>
                </a:lnTo>
                <a:lnTo>
                  <a:pt x="16109" y="14631"/>
                </a:lnTo>
                <a:lnTo>
                  <a:pt x="16109" y="21820"/>
                </a:lnTo>
                <a:lnTo>
                  <a:pt x="5491" y="21820"/>
                </a:lnTo>
                <a:lnTo>
                  <a:pt x="5491" y="14631"/>
                </a:lnTo>
                <a:lnTo>
                  <a:pt x="3837" y="14631"/>
                </a:lnTo>
                <a:close/>
              </a:path>
              <a:path fill="darkenLess" w="21600" h="29262">
                <a:moveTo>
                  <a:pt x="13376" y="10279"/>
                </a:moveTo>
                <a:lnTo>
                  <a:pt x="13376" y="8538"/>
                </a:lnTo>
                <a:lnTo>
                  <a:pt x="15152" y="8538"/>
                </a:lnTo>
                <a:lnTo>
                  <a:pt x="15152" y="12055"/>
                </a:lnTo>
                <a:close/>
              </a:path>
              <a:path fill="darkenLess" w="21600" h="29262">
                <a:moveTo>
                  <a:pt x="9877" y="18130"/>
                </a:moveTo>
                <a:lnTo>
                  <a:pt x="11723" y="18130"/>
                </a:lnTo>
                <a:lnTo>
                  <a:pt x="11723" y="21820"/>
                </a:lnTo>
                <a:lnTo>
                  <a:pt x="16109" y="21820"/>
                </a:lnTo>
                <a:lnTo>
                  <a:pt x="16109" y="14631"/>
                </a:lnTo>
                <a:lnTo>
                  <a:pt x="5491" y="14631"/>
                </a:lnTo>
                <a:lnTo>
                  <a:pt x="5491" y="21820"/>
                </a:lnTo>
                <a:lnTo>
                  <a:pt x="9877" y="2182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9T20:08:44Z</dcterms:created>
  <dc:creator>Administrator</dc:creator>
  <dc:description/>
  <dc:language>en-US</dc:language>
  <cp:lastModifiedBy>Administrator</cp:lastModifiedBy>
  <dcterms:modified xsi:type="dcterms:W3CDTF">2012-03-01T08:10:50Z</dcterms:modified>
  <cp:revision>4</cp:revision>
  <dc:subject/>
  <dc:title>Slide 1</dc:title>
</cp:coreProperties>
</file>