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F8E5-C4D5-4AE2-A400-759CC85AA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0818-7975-497D-A452-DCD00EBA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367C-E678-48A6-B5D1-F58BB6B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947B-B6B1-4811-BC4D-CB23E7848E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42D1-3F89-45C1-AADA-B2F13B7D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0FE3-3802-4B04-9CD8-7AB5D87D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76CB-BB1A-4AC0-BAFA-2BB4E07E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BCEE-3852-47AE-83C3-CE802E6F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19C9-FEEF-4D8E-81AF-7431CFB7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9587-6A9A-4D0B-87E0-F3A9100D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39A2-C431-4262-947A-93727733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FEB5F-8A2C-41BC-950A-E3938463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EA8D-48E7-4CC0-B2EE-B4702FA92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0" y="0"/>
            <a:ext cx="20509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iam Tes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50920" y="1197000"/>
            <a:ext cx="1619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st 0(this test is a starter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34920" y="-30240"/>
            <a:ext cx="20509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iam Tes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-684360" y="6210360"/>
            <a:ext cx="115221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5332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is test is Test 0 go to www.liamtestsccoolbookwins.webs.com/LiamTest and click on start test to find out what to do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lick here to beg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format picture 1 to look like picture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1654200" cy="220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10160" y="2637000"/>
            <a:ext cx="1654200" cy="220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3640" y="3716280"/>
            <a:ext cx="201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1330200" cy="177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796000" y="2924280"/>
            <a:ext cx="1330200" cy="1773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0" y="5445000"/>
            <a:ext cx="1042920" cy="141300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413000"/>
              <a:gd name="textAreaBottom" fmla="*/ 1345680 h 1413000"/>
            </a:gdLst>
            <a:ahLst/>
            <a:rect l="textAreaLeft" t="textAreaTop" r="textAreaRight" b="textAreaBottom"/>
            <a:pathLst>
              <a:path w="21600" h="29262">
                <a:moveTo>
                  <a:pt x="0" y="0"/>
                </a:moveTo>
                <a:lnTo>
                  <a:pt x="21600" y="0"/>
                </a:lnTo>
                <a:lnTo>
                  <a:pt x="21600" y="29262"/>
                </a:lnTo>
                <a:lnTo>
                  <a:pt x="0" y="29262"/>
                </a:lnTo>
                <a:close/>
              </a:path>
              <a:path fill="lightenLess" w="21600" h="29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62">
                <a:moveTo>
                  <a:pt x="21600" y="0"/>
                </a:moveTo>
                <a:lnTo>
                  <a:pt x="21600" y="29262"/>
                </a:lnTo>
                <a:lnTo>
                  <a:pt x="20200" y="27862"/>
                </a:lnTo>
                <a:lnTo>
                  <a:pt x="20200" y="1400"/>
                </a:lnTo>
                <a:close/>
              </a:path>
              <a:path fill="darkenLess" w="21600" h="29262">
                <a:moveTo>
                  <a:pt x="21600" y="29262"/>
                </a:moveTo>
                <a:lnTo>
                  <a:pt x="0" y="29262"/>
                </a:lnTo>
                <a:lnTo>
                  <a:pt x="1400" y="27862"/>
                </a:lnTo>
                <a:lnTo>
                  <a:pt x="20200" y="27862"/>
                </a:lnTo>
                <a:close/>
              </a:path>
              <a:path fill="lighten" w="21600" h="29262">
                <a:moveTo>
                  <a:pt x="0" y="29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62"/>
                </a:lnTo>
                <a:close/>
              </a:path>
              <a:path fill="darken" w="21600" h="29262">
                <a:moveTo>
                  <a:pt x="10800" y="7668"/>
                </a:moveTo>
                <a:lnTo>
                  <a:pt x="13376" y="10279"/>
                </a:lnTo>
                <a:lnTo>
                  <a:pt x="13376" y="8538"/>
                </a:lnTo>
                <a:lnTo>
                  <a:pt x="15152" y="8538"/>
                </a:lnTo>
                <a:lnTo>
                  <a:pt x="15152" y="12055"/>
                </a:lnTo>
                <a:lnTo>
                  <a:pt x="17763" y="14631"/>
                </a:lnTo>
                <a:lnTo>
                  <a:pt x="16109" y="14631"/>
                </a:lnTo>
                <a:lnTo>
                  <a:pt x="16109" y="21820"/>
                </a:lnTo>
                <a:lnTo>
                  <a:pt x="5491" y="21820"/>
                </a:lnTo>
                <a:lnTo>
                  <a:pt x="5491" y="14631"/>
                </a:lnTo>
                <a:lnTo>
                  <a:pt x="3837" y="14631"/>
                </a:lnTo>
                <a:close/>
              </a:path>
              <a:path fill="darkenLess" w="21600" h="29262">
                <a:moveTo>
                  <a:pt x="13376" y="10279"/>
                </a:moveTo>
                <a:lnTo>
                  <a:pt x="13376" y="8538"/>
                </a:lnTo>
                <a:lnTo>
                  <a:pt x="15152" y="8538"/>
                </a:lnTo>
                <a:lnTo>
                  <a:pt x="15152" y="12055"/>
                </a:lnTo>
                <a:close/>
              </a:path>
              <a:path fill="darkenLess" w="21600" h="29262">
                <a:moveTo>
                  <a:pt x="9877" y="18130"/>
                </a:moveTo>
                <a:lnTo>
                  <a:pt x="11723" y="18130"/>
                </a:lnTo>
                <a:lnTo>
                  <a:pt x="11723" y="21820"/>
                </a:lnTo>
                <a:lnTo>
                  <a:pt x="16109" y="21820"/>
                </a:lnTo>
                <a:lnTo>
                  <a:pt x="16109" y="14631"/>
                </a:lnTo>
                <a:lnTo>
                  <a:pt x="5491" y="14631"/>
                </a:lnTo>
                <a:lnTo>
                  <a:pt x="5491" y="21820"/>
                </a:lnTo>
                <a:lnTo>
                  <a:pt x="9877" y="2182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20:08:44Z</dcterms:created>
  <dc:creator>Administrator</dc:creator>
  <dc:description/>
  <dc:language>en-US</dc:language>
  <cp:lastModifiedBy>Administrator</cp:lastModifiedBy>
  <dcterms:modified xsi:type="dcterms:W3CDTF">2012-03-01T08:10:50Z</dcterms:modified>
  <cp:revision>4</cp:revision>
  <dc:subject/>
  <dc:title>Slide 1</dc:title>
</cp:coreProperties>
</file>